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EDE-E4AA-49B0-83E9-DE7D4354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0AC-523F-4BD3-A821-CD765C84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617-78EB-467B-BC34-F98E993D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256-F393-4FB4-B5B7-48CB9E95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C5D-FC7A-49DA-AFF3-A970DBB4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FB4-1F63-40A3-BDF1-DC4788C1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51F-71B0-4336-A007-3C11B888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E30-F473-48AC-A995-2443DEF8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5C1-3133-499B-B5BA-5B151243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0EC-EE03-4FCE-8D5D-38D2699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75B-0950-4601-AE91-99C8B70C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B7B-3C99-4CFF-9159-FB36BCB4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4148-1386-4AFF-9298-DC0F36C82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25360" y="1038240"/>
            <a:ext cx="7103880" cy="1966680"/>
            <a:chOff x="1125360" y="1038240"/>
            <a:chExt cx="7103880" cy="1966680"/>
          </a:xfrm>
        </p:grpSpPr>
        <p:sp>
          <p:nvSpPr>
            <p:cNvPr id="42" name=""/>
            <p:cNvSpPr/>
            <p:nvPr/>
          </p:nvSpPr>
          <p:spPr>
            <a:xfrm>
              <a:off x="1125360" y="1176120"/>
              <a:ext cx="70200" cy="1463760"/>
            </a:xfrm>
            <a:custGeom>
              <a:avLst/>
              <a:gdLst>
                <a:gd name="textAreaLeft" fmla="*/ 20520 w 70200"/>
                <a:gd name="textAreaRight" fmla="*/ 70560 w 70200"/>
                <a:gd name="textAreaTop" fmla="*/ 189720 h 1463760"/>
                <a:gd name="textAreaBottom" fmla="*/ 127404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0800000">
              <a:off x="1687320" y="1214280"/>
              <a:ext cx="70200" cy="1387440"/>
            </a:xfrm>
            <a:custGeom>
              <a:avLst/>
              <a:gdLst>
                <a:gd name="textAreaLeft" fmla="*/ 20520 w 70200"/>
                <a:gd name="textAreaRight" fmla="*/ 70560 w 70200"/>
                <a:gd name="textAreaTop" fmla="*/ 180000 h 1387440"/>
                <a:gd name="textAreaBottom" fmla="*/ 1207440 h 13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82080" y="15573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86560" y="1038240"/>
              <a:ext cx="570600" cy="19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18680" y="1038240"/>
              <a:ext cx="550800" cy="19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91040" y="1557360"/>
              <a:ext cx="1416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Times New Roman"/>
                </a:rPr>
                <a:t>R(</a:t>
              </a:r>
              <a:r>
                <a:rPr b="0" lang="en-US" sz="40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</a:t>
              </a:r>
              <a:r>
                <a:rPr b="0" lang="en-US" sz="4000" spc="-1" strike="noStrike" baseline="-25000">
                  <a:solidFill>
                    <a:srgbClr val="808080"/>
                  </a:solidFill>
                  <a:latin typeface="Times New Roman"/>
                </a:rPr>
                <a:t>23</a:t>
              </a:r>
              <a:r>
                <a:rPr b="0" lang="en-US" sz="40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14360" y="1557360"/>
              <a:ext cx="1416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Times New Roman"/>
                </a:rPr>
                <a:t>R(</a:t>
              </a:r>
              <a:r>
                <a:rPr b="0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</a:t>
              </a:r>
              <a:r>
                <a:rPr b="0" lang="en-US" sz="4000" spc="-1" strike="noStrike" baseline="-25000">
                  <a:solidFill>
                    <a:srgbClr val="ff3300"/>
                  </a:solidFill>
                  <a:latin typeface="Times New Roman"/>
                </a:rPr>
                <a:t>13</a:t>
              </a:r>
              <a:r>
                <a:rPr b="0" lang="en-US" sz="40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80480" y="1557360"/>
              <a:ext cx="1416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8000"/>
                  </a:solidFill>
                  <a:latin typeface="Times New Roman"/>
                </a:rPr>
                <a:t>R(</a:t>
              </a:r>
              <a:r>
                <a:rPr b="0" lang="en-US" sz="4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0" lang="en-US" sz="4000" spc="-1" strike="noStrike" baseline="-25000">
                  <a:solidFill>
                    <a:srgbClr val="008000"/>
                  </a:solidFill>
                  <a:latin typeface="Times New Roman"/>
                </a:rPr>
                <a:t>12</a:t>
              </a:r>
              <a:r>
                <a:rPr b="0" lang="en-US" sz="40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65960" y="1282680"/>
              <a:ext cx="11836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en-US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en-US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27800" y="1176120"/>
              <a:ext cx="69840" cy="146376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189720 h 1463760"/>
                <a:gd name="textAreaBottom" fmla="*/ 127404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4852800" y="1214280"/>
              <a:ext cx="70200" cy="1387440"/>
            </a:xfrm>
            <a:custGeom>
              <a:avLst/>
              <a:gdLst>
                <a:gd name="textAreaLeft" fmla="*/ 20520 w 70200"/>
                <a:gd name="textAreaRight" fmla="*/ 70560 w 70200"/>
                <a:gd name="textAreaTop" fmla="*/ 180000 h 1387440"/>
                <a:gd name="textAreaBottom" fmla="*/ 1207440 h 13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6360" y="1176120"/>
              <a:ext cx="70200" cy="1463760"/>
            </a:xfrm>
            <a:custGeom>
              <a:avLst/>
              <a:gdLst>
                <a:gd name="textAreaLeft" fmla="*/ 20520 w 70200"/>
                <a:gd name="textAreaRight" fmla="*/ 70560 w 70200"/>
                <a:gd name="textAreaTop" fmla="*/ 189720 h 1463760"/>
                <a:gd name="textAreaBottom" fmla="*/ 127404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8159400" y="1214280"/>
              <a:ext cx="69840" cy="138744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180000 h 1387440"/>
                <a:gd name="textAreaBottom" fmla="*/ 1207440 h 13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139120" y="54468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tmos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65280" y="54612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sol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4320" y="1177920"/>
            <a:ext cx="0" cy="380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53240" y="1177920"/>
            <a:ext cx="0" cy="3808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76440" y="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olation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90840" y="492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82960" y="623880"/>
            <a:ext cx="15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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56240" y="12193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61960" y="2717640"/>
            <a:ext cx="8311680" cy="3911760"/>
            <a:chOff x="561960" y="2717640"/>
            <a:chExt cx="8311680" cy="391176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4795560" y="4832280"/>
                  <a:ext cx="9792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6820200" y="3149640"/>
              <a:ext cx="10738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en-US" sz="2800" spc="-1" strike="noStrike" baseline="30000">
                  <a:solidFill>
                    <a:srgbClr val="808080"/>
                  </a:solidFill>
                  <a:latin typeface="Times New Roman"/>
                </a:rPr>
                <a:t>-i</a:t>
              </a:r>
              <a:r>
                <a:rPr b="1" lang="en-US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26640" y="2819520"/>
              <a:ext cx="6257160" cy="3809880"/>
            </a:xfrm>
            <a:prstGeom prst="bracketPair">
              <a:avLst>
                <a:gd name="adj" fmla="val 740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8160" y="3090960"/>
              <a:ext cx="5663880" cy="7491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5590440" y="4063320"/>
              <a:ext cx="3537000" cy="11854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8272080" y="3090960"/>
              <a:ext cx="550800" cy="3369960"/>
              <a:chOff x="8272080" y="3090960"/>
              <a:chExt cx="550800" cy="3369960"/>
            </a:xfrm>
          </p:grpSpPr>
          <p:sp>
            <p:nvSpPr>
              <p:cNvPr id="70" name=""/>
              <p:cNvSpPr/>
              <p:nvPr/>
            </p:nvSpPr>
            <p:spPr>
              <a:xfrm>
                <a:off x="8272080" y="3090960"/>
                <a:ext cx="5508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72080" y="4382280"/>
                <a:ext cx="5508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72080" y="5742720"/>
                <a:ext cx="5508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8215920" y="2819520"/>
              <a:ext cx="657720" cy="380988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1920" y="3024360"/>
              <a:ext cx="535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2920" y="5562720"/>
              <a:ext cx="621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561960" y="2819520"/>
              <a:ext cx="914040" cy="3809880"/>
              <a:chOff x="561960" y="2819520"/>
              <a:chExt cx="914040" cy="3809880"/>
            </a:xfrm>
          </p:grpSpPr>
          <p:sp>
            <p:nvSpPr>
              <p:cNvPr id="77" name=""/>
              <p:cNvSpPr/>
              <p:nvPr/>
            </p:nvSpPr>
            <p:spPr>
              <a:xfrm>
                <a:off x="653040" y="4384080"/>
                <a:ext cx="7185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61960" y="2819520"/>
                <a:ext cx="914040" cy="380988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1457280" y="4543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0179200">
              <a:off x="3578400" y="2931480"/>
              <a:ext cx="1230480" cy="78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</a:t>
              </a:r>
              <a:r>
                <a:rPr b="0" lang="fr-FR" sz="4000" spc="-1" strike="noStrike" baseline="-25000">
                  <a:solidFill>
                    <a:srgbClr val="339933"/>
                  </a:solidFill>
                  <a:latin typeface="Times New Roman"/>
                </a:rPr>
                <a:t>solai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0095200">
              <a:off x="6444720" y="4788360"/>
              <a:ext cx="2231640" cy="78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</a:t>
              </a:r>
              <a:r>
                <a:rPr b="0" lang="fr-FR" sz="4000" spc="-1" strike="noStrike" baseline="-25000">
                  <a:solidFill>
                    <a:srgbClr val="808080"/>
                  </a:solidFill>
                  <a:latin typeface="Times New Roman"/>
                </a:rPr>
                <a:t>atm, terrest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543040" y="3011400"/>
                  <a:ext cx="58896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866120" y="3065400"/>
                  <a:ext cx="42012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1816200" y="4125960"/>
                  <a:ext cx="17262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3381840" y="4282920"/>
              <a:ext cx="10054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fr-FR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fr-FR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fr-FR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4514040" y="4111560"/>
                  <a:ext cx="1516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7" name=""/>
            <p:cNvSpPr/>
            <p:nvPr/>
          </p:nvSpPr>
          <p:spPr>
            <a:xfrm>
              <a:off x="5823360" y="4268880"/>
              <a:ext cx="10054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fr-FR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fr-FR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fr-FR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7021440" y="4168800"/>
                  <a:ext cx="59184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984680" y="5584680"/>
                  <a:ext cx="1516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3315960" y="5742000"/>
              <a:ext cx="10054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fr-FR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fr-FR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fr-FR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4317840" y="5578560"/>
                  <a:ext cx="17280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>
              <a:off x="5889240" y="5735520"/>
              <a:ext cx="10054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fr-FR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fr-FR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fr-FR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7084440" y="5597640"/>
                  <a:ext cx="59184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01920" y="5791320"/>
            <a:ext cx="41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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e de violation de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82440" y="838080"/>
            <a:ext cx="8933040" cy="4724640"/>
            <a:chOff x="82440" y="838080"/>
            <a:chExt cx="8933040" cy="4724640"/>
          </a:xfrm>
        </p:grpSpPr>
        <p:grpSp>
          <p:nvGrpSpPr>
            <p:cNvPr id="97" name=""/>
            <p:cNvGrpSpPr/>
            <p:nvPr/>
          </p:nvGrpSpPr>
          <p:grpSpPr>
            <a:xfrm>
              <a:off x="82440" y="838080"/>
              <a:ext cx="8933040" cy="4724640"/>
              <a:chOff x="82440" y="838080"/>
              <a:chExt cx="8933040" cy="4724640"/>
            </a:xfrm>
          </p:grpSpPr>
          <p:sp>
            <p:nvSpPr>
              <p:cNvPr id="98" name=""/>
              <p:cNvSpPr/>
              <p:nvPr/>
            </p:nvSpPr>
            <p:spPr>
              <a:xfrm>
                <a:off x="82440" y="838080"/>
                <a:ext cx="8933040" cy="472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1348200" y="1066680"/>
                <a:ext cx="6681960" cy="4309200"/>
                <a:chOff x="1348200" y="1066680"/>
                <a:chExt cx="6681960" cy="43092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1428840" y="1341720"/>
                  <a:ext cx="6509880" cy="4034160"/>
                  <a:chOff x="1428840" y="1341720"/>
                  <a:chExt cx="6509880" cy="403416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2081880" y="1341720"/>
                    <a:ext cx="119664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443120" y="1341720"/>
                    <a:ext cx="117216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s</a:t>
                    </a:r>
                    <a:r>
                      <a:rPr b="1" lang="en-US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672240" y="1341720"/>
                    <a:ext cx="126648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en-US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en-US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-i</a:t>
                    </a:r>
                    <a:r>
                      <a:rPr b="1" lang="en-US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440720" y="2351880"/>
                    <a:ext cx="2378520" cy="149148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s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c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fr-FR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fr-FR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i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3801240" y="2326680"/>
                    <a:ext cx="2354400" cy="149148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s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fr-FR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fr-FR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i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428840" y="3884400"/>
                    <a:ext cx="2403000" cy="149148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c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fr-FR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fr-FR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i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789720" y="3884400"/>
                    <a:ext cx="2378880" cy="149148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c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s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fr-FR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fr-FR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i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735240" y="2628360"/>
                    <a:ext cx="117216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s</a:t>
                    </a:r>
                    <a:r>
                      <a:rPr b="1" lang="en-US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735240" y="4186440"/>
                    <a:ext cx="119664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1348200" y="1066680"/>
                  <a:ext cx="6681960" cy="4267440"/>
                </a:xfrm>
                <a:prstGeom prst="bracketPair">
                  <a:avLst>
                    <a:gd name="adj" fmla="val 7407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1840680" y="1371600"/>
              <a:ext cx="6048720" cy="8380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5275080" y="2491200"/>
              <a:ext cx="3962520" cy="1265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8171280" y="1066680"/>
              <a:ext cx="703080" cy="4267440"/>
              <a:chOff x="8171280" y="1066680"/>
              <a:chExt cx="703080" cy="426744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8231040" y="1371600"/>
                <a:ext cx="550800" cy="3690000"/>
                <a:chOff x="8231040" y="1371600"/>
                <a:chExt cx="550800" cy="36900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8231040" y="1371600"/>
                  <a:ext cx="550800" cy="71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en-US" sz="3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231040" y="2819520"/>
                  <a:ext cx="550800" cy="71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en-US" sz="3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231040" y="4343400"/>
                  <a:ext cx="550800" cy="71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en-US" sz="3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8171280" y="1066680"/>
                <a:ext cx="703080" cy="426744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22840" y="1066680"/>
              <a:ext cx="703440" cy="4391280"/>
              <a:chOff x="222840" y="1066680"/>
              <a:chExt cx="703440" cy="4391280"/>
            </a:xfrm>
          </p:grpSpPr>
          <p:sp>
            <p:nvSpPr>
              <p:cNvPr id="120" name=""/>
              <p:cNvSpPr/>
              <p:nvPr/>
            </p:nvSpPr>
            <p:spPr>
              <a:xfrm>
                <a:off x="352800" y="1295280"/>
                <a:ext cx="53568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93040" y="4191120"/>
                <a:ext cx="512640" cy="12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fr-FR" sz="3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22840" y="1066680"/>
                <a:ext cx="703440" cy="4267080"/>
                <a:chOff x="222840" y="1066680"/>
                <a:chExt cx="703440" cy="42670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92680" y="2819160"/>
                  <a:ext cx="552600" cy="12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en-US" sz="3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22840" y="1066680"/>
                  <a:ext cx="703440" cy="4267080"/>
                </a:xfrm>
                <a:prstGeom prst="bracketPair">
                  <a:avLst>
                    <a:gd name="adj" fmla="val 17129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"/>
          <p:cNvSpPr/>
          <p:nvPr/>
        </p:nvSpPr>
        <p:spPr>
          <a:xfrm>
            <a:off x="831600" y="2997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24920" y="649116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+ 2 phases Majorana termes diagon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0179200">
            <a:off x="3203280" y="1215360"/>
            <a:ext cx="1230480" cy="78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0000"/>
                </a:solidFill>
                <a:latin typeface="Times New Roman"/>
              </a:rPr>
              <a:t>sol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095200">
            <a:off x="6277680" y="3501000"/>
            <a:ext cx="2085840" cy="78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339933"/>
                </a:solidFill>
                <a:latin typeface="Times New Roman"/>
              </a:rPr>
              <a:t>atm, terres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44686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sse et Mél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39760" y="393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432480" y="3306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00" y="88200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ecteur des Qua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523880"/>
            <a:ext cx="4253040" cy="48578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910880"/>
            <a:ext cx="2112840" cy="1237680"/>
          </a:xfrm>
          <a:prstGeom prst="downArrowCallout">
            <a:avLst>
              <a:gd name="adj1" fmla="val 42681"/>
              <a:gd name="adj2" fmla="val 42677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680" y="4199400"/>
            <a:ext cx="42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ants Chargés: matric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79440" y="2924280"/>
            <a:ext cx="3847680" cy="1201320"/>
            <a:chOff x="379440" y="2924280"/>
            <a:chExt cx="3847680" cy="1201320"/>
          </a:xfrm>
        </p:grpSpPr>
        <p:grpSp>
          <p:nvGrpSpPr>
            <p:cNvPr id="138" name=""/>
            <p:cNvGrpSpPr/>
            <p:nvPr/>
          </p:nvGrpSpPr>
          <p:grpSpPr>
            <a:xfrm>
              <a:off x="379440" y="2924280"/>
              <a:ext cx="3847680" cy="479160"/>
              <a:chOff x="379440" y="2924280"/>
              <a:chExt cx="3847680" cy="479160"/>
            </a:xfrm>
          </p:grpSpPr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379440" y="2924280"/>
                    <a:ext cx="1853280" cy="47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0" name=""/>
                  <p:cNvSpPr txBox="1"/>
                  <p:nvPr/>
                </p:nvSpPr>
                <p:spPr>
                  <a:xfrm>
                    <a:off x="2425680" y="2930760"/>
                    <a:ext cx="1801440" cy="46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≡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08000" y="3623040"/>
                  <a:ext cx="2679840" cy="50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62120" y="1676520"/>
                <a:ext cx="3109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547640" y="1600200"/>
            <a:ext cx="6764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09800" y="5637600"/>
            <a:ext cx="2381040" cy="684000"/>
            <a:chOff x="1009800" y="5637600"/>
            <a:chExt cx="2381040" cy="68400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009800" y="5759280"/>
                  <a:ext cx="2342880" cy="56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q</m:t>
                              </m:r>
                            </m:sub>
                          </m:sSub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CKM</m:t>
                          </m:r>
                        </m:sup>
                      </m:sSubSup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 flipH="1">
              <a:off x="3051000" y="5637600"/>
              <a:ext cx="3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30360" y="4967280"/>
                <a:ext cx="33433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q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KM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584440" y="4938840"/>
            <a:ext cx="1092240" cy="620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30320" y="882000"/>
            <a:ext cx="41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cteur des Neutr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33920" y="1504800"/>
            <a:ext cx="4249800" cy="485784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05080" y="1640520"/>
            <a:ext cx="3645360" cy="1063440"/>
          </a:xfrm>
          <a:prstGeom prst="downArrowCallout">
            <a:avLst>
              <a:gd name="adj1" fmla="val 58978"/>
              <a:gd name="adj2" fmla="val 49149"/>
              <a:gd name="adj3" fmla="val 16630"/>
              <a:gd name="adj4" fmla="val 718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èle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 de masse ni de mél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65760" y="2844360"/>
            <a:ext cx="33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roits:  terme de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Di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auches de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Majoran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843440" y="3938760"/>
            <a:ext cx="3809880" cy="706320"/>
            <a:chOff x="4843440" y="3938760"/>
            <a:chExt cx="3809880" cy="706320"/>
          </a:xfrm>
        </p:grpSpPr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6994440" y="4025520"/>
                  <a:ext cx="1658880" cy="51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≡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ν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55" name=""/>
            <p:cNvGrpSpPr/>
            <p:nvPr/>
          </p:nvGrpSpPr>
          <p:grpSpPr>
            <a:xfrm>
              <a:off x="4843440" y="3938760"/>
              <a:ext cx="2009520" cy="706320"/>
              <a:chOff x="4843440" y="3938760"/>
              <a:chExt cx="2009520" cy="706320"/>
            </a:xfrm>
          </p:grpSpPr>
          <mc:AlternateContent>
            <mc:Choice xmlns:a14="http://schemas.microsoft.com/office/drawing/2010/main" Requires="a14">
              <p:sp>
                <p:nvSpPr>
                  <p:cNvPr id="156" name=""/>
                  <p:cNvSpPr txBox="1"/>
                  <p:nvPr/>
                </p:nvSpPr>
                <p:spPr>
                  <a:xfrm>
                    <a:off x="4843440" y="4014720"/>
                    <a:ext cx="2009520" cy="55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 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"/>
              <p:cNvSpPr/>
              <p:nvPr/>
            </p:nvSpPr>
            <p:spPr>
              <a:xfrm>
                <a:off x="5811120" y="3938760"/>
                <a:ext cx="1041480" cy="7063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853160" y="4952880"/>
                <a:ext cx="3827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ν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NS</m:t>
                        </m:r>
                      </m:sup>
                    </m:sSub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713120" y="5727600"/>
                <a:ext cx="19688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ν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p>
                    </m:sSub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H="1">
            <a:off x="6477840" y="556164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781680" y="5559480"/>
            <a:ext cx="2058840" cy="690120"/>
            <a:chOff x="6781680" y="5559480"/>
            <a:chExt cx="2058840" cy="690120"/>
          </a:xfrm>
        </p:grpSpPr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6781680" y="5695560"/>
                  <a:ext cx="197892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ΦV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D</m:t>
                          </m:r>
                        </m:sup>
                      </m:sSubSup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"/>
            <p:cNvSpPr/>
            <p:nvPr/>
          </p:nvSpPr>
          <p:spPr>
            <a:xfrm flipH="1">
              <a:off x="8556840" y="5559480"/>
              <a:ext cx="2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986440" y="6362640"/>
                <a:ext cx="2820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dia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α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3235320" y="1600200"/>
            <a:ext cx="6778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74080" y="4876920"/>
            <a:ext cx="1091880" cy="620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1:32:35Z</dcterms:created>
  <dc:creator>Campagne</dc:creator>
  <dc:description/>
  <dc:language>en-US</dc:language>
  <cp:lastModifiedBy>J.E Campagne</cp:lastModifiedBy>
  <dcterms:modified xsi:type="dcterms:W3CDTF">2008-09-18T14:35:01Z</dcterms:modified>
  <cp:revision>1</cp:revision>
  <dc:subject/>
  <dc:title>Présentation PowerPoint</dc:title>
</cp:coreProperties>
</file>